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023C-D72A-48F2-88F5-99CCD6512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0603-711A-4A6F-9EB0-D7630389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C35B98-083D-4703-87B1-1A74D5C8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964D2D-A1CC-45B1-BDFC-CB28734C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8FA59C-A51F-428B-8C6A-A63D44D6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A9FF3-8B5A-4137-91D6-D548CBB4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C909A0-43CA-4BB2-839A-6FEF3DAE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660D90-FDDF-4878-8827-34BC70FA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20B76-AF05-4720-BD4F-D43491A1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89676B-09BF-46D2-8CCB-393B3F5E2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BC8209-C67D-4923-96F6-43B5677F6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A4DD4C-C725-48C4-BA45-E574351AF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F633-B787-4B3C-B394-42FFDF9C2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0DC092-332A-4522-BC38-EAA4F813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13F0B4-CA8F-402A-9437-392A161E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7B0783-EB5B-4EDD-9EE2-0FD50936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A11118-4EAF-47A9-A549-EAB1BBAA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43853B-09E8-45C1-B6A0-0A257D9E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A628BB-861E-4C9E-8D76-18E7E230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92FF20-56D6-41ED-9032-685651C6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4C4AA3-1C92-4967-B649-8A490987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C246CF-319D-4F7C-8208-C3312735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86C024-CD94-481D-A003-39B99D12A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2E4F-F635-433A-9934-3704DE748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71F2F7-853D-4DBF-BCB6-20236DC7D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8DD085-7401-48E9-953C-62BC7BFF0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CA8AC-1939-4691-ABFC-57D708F8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22D0F-BA1A-4704-91BA-30E65E7E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1B853-DA2E-4A34-BCAB-EECD59AE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FEB07-527D-4D0D-B14D-C9294BCE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D276FB-B05A-42F7-85B1-1A841904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E20FC6-18A6-42D0-BA3D-272BECFD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A47A5-9250-4B1D-BB69-239BC5D2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ECDF95-1960-4B32-9C5F-FF0071E2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6999-5B51-413A-A0F5-EA9D95EB8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13029-60CE-4D65-8B0E-5027DEEB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65978-468D-4558-B991-A7A7DE960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F4FFE6-260B-41F6-B78E-F8F587E6B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B027B1-D591-4EE6-B8D2-3D7040EA1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C4C827-29EC-4E0F-B22B-8C09505A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70EE59-2C4E-45C3-8702-70616293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EBA04E-656A-4C91-A2E4-7B75B63A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9AC92F-6D15-41AC-8853-1FE28519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68F9D0-6420-46B0-B9B6-BA009140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2D5AC1-AFE6-433B-8282-88ECC0D6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C442-1BF0-4D64-A5DA-EC866574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A8764A-ADDD-49B6-BF5E-A2FE123F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4C9B7B-E49E-41E6-AB38-567ECADB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F3D51F-EFC7-4946-B573-426E1F03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73613A-B119-4136-AE4D-4FC6DAD96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CDA864-DC24-4CEB-9741-640952F17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5134A5-4CB0-4452-A8B7-813958248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4D21B3-F027-4029-ABDB-CEAEEACD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E31F88-B288-49B7-A3FA-F664BE44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3D1744-A1C8-4DEC-BFD2-AD1330C9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C90E4D-A8B6-4EE9-BED6-48019C16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5CCD-EA96-4938-9973-6CBD4052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3F7BA9-B7EE-4B21-A211-CAED213E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553210-1E88-4C8F-8C98-562C57DE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48EB3E-13F6-48A2-8250-DD81FC1E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DE3395-564F-42F3-A19C-EF0F07B8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C8168D-A350-40B8-B57F-5B56A937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241A83-E80D-4C88-A42D-D6A10F8C9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5CBF03-BC4D-47D8-BD80-6F5B81BC2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157638-920A-4839-B0F2-6748F6DBF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F45EE6-98F7-4A17-A137-FBE863F2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DE9D98-5DBE-46D6-9594-A0B52530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B81EA-EC7A-4261-B222-7E15633C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4EEF66-CC89-45B3-8311-12CEA7D8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81AC84-515E-447A-ABF4-7413D493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04E504-53EF-482C-918C-8E3EE76F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23B6D0-417D-4E71-9EE8-B4268160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C28404-3E78-409E-B8EF-08EBE41D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75C309-E467-4419-B4C9-C5FCD9CE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2E1112-38BC-4351-9DCD-6630FDF4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22F4D8-A909-41A6-9F29-EEE3B6087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2164B4-D558-4631-876F-1C8D73D96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39F5CD-E536-46CD-985A-13AE8BC32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91C0-8945-4E01-9079-CB3B3E8F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D41DD4-9C38-44DA-886F-DA1013E6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BBF17C-6EE4-4CA3-8329-C3EFFDAD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866406-3474-4024-8D3C-6BDED73A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4BF50A-0185-4890-9368-52564124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969BAF-7CD3-484B-A277-15C1B1B6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305ABD-1E5B-4B1E-A382-B439104A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0391D5-2F0D-4C70-A94E-89CEA9C6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E52D11-ED27-42E1-B573-D143BB46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A83D69-47C6-4F87-8CA9-A73F5141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0867EF-F019-4A9A-9D06-3E4FFCF4E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40D5-D833-42D7-9814-E48884D0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64D9B1-C947-4A04-962B-A442CD5ED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626B61-6C93-4A6A-8DB2-3C414F7FC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FB6343-2098-4C02-94B8-7A474C37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EB7B58-08A0-4774-A3A3-BD436C58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BDC682-D98E-4E9D-A88E-21718DE9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CEA103-F11E-4327-A13A-4EEF5A2E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EA6542-113F-4EEC-9176-64591B61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153007-6A8E-45FD-9CB7-1844ADFA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BF3F09-3367-4B0F-9297-982DDDF3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13740D-15BB-4BB2-B102-EC769813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588D1-B0F2-4353-9DCF-EC7917FB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39E7C6-865F-42CE-AA4D-30E564B6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DF6B3D-9EC9-4ACB-B310-38B452810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3AA068-B4EF-48D8-8EA7-3B7DC6D21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F198A7-7519-4B5D-92F9-FE2C5BBFD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EEDF9C-8459-4560-9116-03018F7D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C41C0D-52A1-45CF-87B9-B567F43E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A8BE33-3B95-4AE2-B22A-F392C533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70BFC3-42E8-4AD7-8C48-078789ED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19515C-61C3-4590-996C-928F3EBE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29BB6B-1C26-4844-9DFC-6A86AF22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E9ED-6389-49C1-B824-CFB057E3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1B59-5CAB-4741-ABE4-F26E2BF7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C662FD-161C-4E75-A2BD-F23CE557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445671-7A3E-4FD8-A6DF-1162514F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0E22E8-D3CC-4FCD-AE09-1D6831DE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315457-DFC4-4AB1-92A8-51A0E18D9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34E9A9-6D18-4B64-AF18-5EDCD9B75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B686DC-0C57-44C3-90D1-2A87AB811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A04612-81C3-4C48-8CF0-58A2E31D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890D9F-A0FE-419C-8E32-9DB19E0D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C6F92E-E5BB-4772-BBF7-9AA47986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64686E-F82C-4DE6-BF03-9665BA9F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E7F2-1630-4F49-B37F-42F2BF27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A480D0-AB49-41A9-98D0-6A580FE5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17C587-043C-4364-9525-C64D38FF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D1D967-9BEA-4470-A1AF-841CF9CB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7F612C-0CC6-4730-B01A-B8B33BBB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F25977-2C55-4193-9DE1-544FCBB8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5B17B0-16F2-44C5-9BA1-4E4217698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25AB3B-78FE-4595-A55E-6E8BBE6E7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5B06BA-1B64-492B-8A32-06B30A9AA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3D0D5E-C0A2-4DF9-B244-BD5A06C6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D14739-D942-494B-927E-212600FB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77299-3298-472D-BCE8-2B3051CA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0CD3CF-A1FB-4278-9C3B-25250287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E076F4-C515-483D-A773-87AD48AD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D96341-1573-430E-915A-50B05B16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29C6E0-3FCF-42AC-87C5-2C1FA18B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921266-014E-4EEB-B47B-07A2104C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1FAEAE-7992-47B9-B3E6-89C79C36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7F4798-C9A8-4560-A0B4-567D3160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027366-15FA-4C26-AC9E-ECBFBEEA4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E3DCA6-C60B-439B-8D52-158E1660B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BDCF6D-CBAC-404F-9C9F-11ACD54B8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9467-AA6B-44FD-910F-F13E519FF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3C4FE7-374B-47C9-899D-8BCDE0BB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629542-8865-4456-B0B1-2CA6918F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6E3A7B-4EA1-4A9A-8100-F0DE86E7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01D0E7-A146-41C1-A20E-6904091F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31604B-5B36-4884-9924-98501955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2FB877-09F1-458C-819E-CD1B2939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21DC12-0721-448E-A2E0-85C9ADE1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D40FE8-FDED-496E-B4AF-49D17A96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E6223A-222F-4702-B089-65D33DE7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CA115C-4429-48EB-BE08-2317D2DE0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9666-CC5B-452A-A7C3-2ECD1AF40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0F6F49-28A9-4373-BA11-7DDD089B1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A1EC50-F021-498D-8F84-07730171B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7924B0-F77F-4B94-849F-4E380409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F90724-F236-4A96-A456-D034C828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C44A81-DE88-41A3-B9EC-2CB7B1C9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A12444-2027-45CD-BAED-E0A39F0D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29FDA8-B337-41E4-A09C-AB45DA14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B3487D-F716-4ABA-9737-4151DCB2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229476-FD44-40D4-BDDB-7A2828DF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C52332-7388-4EC8-89E4-C01E9C06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72485-840A-41CB-A204-CA0648622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E0ADCA-D8E3-4243-ABCF-A151D5A3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84499A-5D5B-4D4B-9850-052D76DB9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679491-705B-4C13-A124-8D3D91B3B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60A94-61B7-4EAB-937A-AF5B83A4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9DF12-FB90-4902-B023-EC1F32B2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B5012-B819-4A23-8DCE-F0197D41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60E02-3C05-4738-B304-9ABCF8F3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F1B6-1649-4A13-8527-D571C328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09167-85D6-406D-B08F-BE994EDB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ED9D7-0B15-439F-9F9A-9FFD4D88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2A056-CFA7-4C2E-A3D1-BC58E9A1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A90E3-C073-48F1-8335-5122B2F6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129CA-CE6A-4503-96C6-1392CC76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04C3E-2F83-43C3-83F7-5700838B0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2E43A-B2CA-43A5-91DC-CA1A5A964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842C6-7021-4390-9F95-A957737E6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A1888-6D11-42AB-9629-6F58BD70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DE84A-239B-4B28-B6B5-BE8FC51A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0791-AD16-4301-B87A-EF3BC7C8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55161-E320-4670-B9C6-41603632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F63AA-E64D-437A-8168-92B5F11E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3F5B5-2FF2-4A26-A51E-4DC47BA4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FE8D7-064A-4C29-9466-0D1ADC79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1AD95-B4BE-494A-874F-D899E7A8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4601C-96EB-4E80-BF5B-EB7D3C97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85DAE-A8CF-4FDA-8DC6-5DDC6213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F6207-1F40-4174-BA1E-A425DF0DB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EBBBF-227A-4246-AD80-E5C7DE833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A0462-3B41-4E6F-A7B1-35EA1FB60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038C-6E91-4C29-A06A-DFE95351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A983A-93F1-4151-ADC2-14509D92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568CB-7CC2-42FC-A9BE-7C1016C5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155FA-40CA-48DD-AC42-818DA4FA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8E6BA-A23D-4199-89E1-954901BF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F757F-206C-44F4-9C54-57AABF70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4DE31-DBCA-4891-8B71-5143363B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3B465-009E-492E-A918-BE96F4D5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46291-D700-4AA8-B1ED-21C5D9A8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F68D7-5D73-47FF-A3DC-D18D5A1A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7A30D-703E-41D5-91A7-2F1C137A7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99A0-C6F0-412C-8DD6-D0F3C7DD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93871-A710-4F88-944D-E38B0BC2B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8D6B0-10BF-4148-8B13-8E5292DAD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4B959-E4E8-4FE2-8AAD-634F8CE6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9FA24-1DB2-4922-A0B4-CC2DF23B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B972D-DE35-42BE-A579-1327DE14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2E854-F26D-40E5-9B50-C2239E05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78AC2-58FE-4091-A476-4C395BE0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0154A-7453-4BF8-AE60-839BBD8A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51943-0810-418D-BB09-B5615CC8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D8FD1-3281-4C16-BB62-796546C3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2B69-A363-498D-87E2-19824B5B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F978C-B0EA-4E58-8D18-9E57616C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19DB0-A9A3-42BE-8A51-E8015DAA8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2F2DC-D602-4EEB-9ADD-57C370531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387E0-79D3-44A1-89E3-3C7DAC8BF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ED90A-CFD5-4BCC-B5F6-ED62D2A6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8772D-F96D-43D0-ADD9-962DA145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5F094-0DE2-40FF-8522-45024751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C768C-A824-4EAC-9B35-CEB4F014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88730-D9BF-4D0C-AB0C-66BAB813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84C2A-A590-4EC9-B812-7976B33A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BB83-37E4-46A1-9C45-2DB15D0D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A9789-F2A2-4E67-9A77-A874911A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8282B-A847-42C7-A00F-C359C654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B86B5-5DF5-48EB-9C5B-5ABFC131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38B91-3FDB-4E0E-A180-3337F14CD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22E4F-1D6C-4ED8-9FF6-548A6DD9C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FA6F3-4B8E-4E23-9E82-3B838844F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B8826-97DA-4565-888F-74EB6992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4FE00-D2B0-4579-865B-B9173BC5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DC976-6260-4C14-80E8-078E516D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A068A-8F95-4E64-B7EE-6A35D9B8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090D-D8BF-4BB8-9F98-491C47B6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4F58A-38A4-4E12-A400-665E8FD6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A7FF4-6A7E-4FE1-A274-D72845B2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521B6-B9BD-438C-8C11-46A1792E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C1CDB-55FD-4DDC-B2A8-803EB1FB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7F64C-2D96-469B-B4AD-4B4D5481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4F7D9-A6A9-4BB8-AF37-ED03578DA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6B39E-5DB4-496D-8A63-232AE3A0B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453506-C987-4032-BB8A-4653CCBF2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131AE8-75A6-4CB1-98B6-24407069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271F35-71EC-4C58-B098-6961134A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EBC4-6BFF-46C0-9E61-BA139E25D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77C9-F4F5-465F-9800-2C528CAFE6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C653-39A7-42BF-A17B-8275D1E23F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AECB-ED14-4576-BE92-6F8727E198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C5F7-D294-40D4-9C3B-F87C576517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BFBD-5BEC-482E-9262-0E5F609901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8E3A-9E6F-4522-A5D4-83B0C0F83A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63D3-12CB-4823-8414-CB69A58E3C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D052-6723-4CAA-93B7-27CF26E539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BF79-1137-492A-BCA5-3093A59C96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EBC0-20C7-49FD-9B13-8403FB7099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4351-DA25-4283-9E65-A1899D0772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7CF7-FA32-4960-8494-628E5C6950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EF98-52C4-4B88-8772-13F3E1BD6C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25A4-EDB1-45CA-B9AC-0B6AAFC478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FB4A-E12F-4341-9963-B24F55386F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8A27-B7C3-4A26-9628-E6C3133A17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0357-7738-40E0-94CD-4C9BF946A9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EB79-5A39-4938-B61F-0845C2E873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6E7B-D85F-4787-B745-8CF5A5894F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1B94-E7C5-44DF-A548-E1FC3EC916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CB74-2578-4098-BD2E-49D7D32C83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E2E9-6D62-48A1-B736-1B068ABB9D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7153-F529-4DC6-AA75-1FC1931F32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3DAE-ED2D-46BF-A21A-C483245B7A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D538-73BC-4670-9C9D-FC375BA3DA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8167-C863-4A7D-A8FF-4FA04B99CA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C6C3-800C-447F-9D60-1DED93F2A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9052-6D80-4A82-8C1F-2B6C32518E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D234-7AED-4827-98C5-B826BF0A5B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D646-51A9-4106-A767-14F65A1B1B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45F8-6503-4E22-97E0-FAD3329E09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5EDC-B43C-4F53-9448-8D837DA8C2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7A8E-B29B-49FA-8BEA-8BFE1B4D93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88C1-F810-475F-B1FE-321AFEE49E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F56A-B0E3-423A-B0E2-06706C9450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663F-0045-40E9-AFEB-72AB9F0919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9E00-466F-430A-B16B-891C4CE50D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C72B-D1E9-4FC1-986C-EFDB04E085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9CBA-B1B0-45A6-AFF8-C3BB091BC3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1114560" y="3081240"/>
            <a:ext cx="691488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428760" y="785880"/>
            <a:ext cx="8238960" cy="6072120"/>
          </a:xfrm>
          <a:prstGeom prst="rect">
            <a:avLst/>
          </a:prstGeom>
          <a:ln w="0">
            <a:noFill/>
          </a:ln>
        </p:spPr>
      </p:pic>
      <p:sp>
        <p:nvSpPr>
          <p:cNvPr id="1024" name="矩形 2"/>
          <p:cNvSpPr/>
          <p:nvPr/>
        </p:nvSpPr>
        <p:spPr>
          <a:xfrm>
            <a:off x="928800" y="2428920"/>
            <a:ext cx="42840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3"/>
          <p:cNvSpPr/>
          <p:nvPr/>
        </p:nvSpPr>
        <p:spPr>
          <a:xfrm>
            <a:off x="928800" y="4929120"/>
            <a:ext cx="42840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Picture 1" descr=""/>
          <p:cNvPicPr/>
          <p:nvPr/>
        </p:nvPicPr>
        <p:blipFill>
          <a:blip r:embed="rId1"/>
          <a:stretch/>
        </p:blipFill>
        <p:spPr>
          <a:xfrm>
            <a:off x="442800" y="781200"/>
            <a:ext cx="8258400" cy="5295600"/>
          </a:xfrm>
          <a:prstGeom prst="rect">
            <a:avLst/>
          </a:prstGeom>
          <a:ln w="0">
            <a:noFill/>
          </a:ln>
        </p:spPr>
      </p:pic>
      <p:sp>
        <p:nvSpPr>
          <p:cNvPr id="1027" name="矩形 2"/>
          <p:cNvSpPr/>
          <p:nvPr/>
        </p:nvSpPr>
        <p:spPr>
          <a:xfrm>
            <a:off x="1000080" y="928800"/>
            <a:ext cx="42876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3"/>
          <p:cNvSpPr/>
          <p:nvPr/>
        </p:nvSpPr>
        <p:spPr>
          <a:xfrm>
            <a:off x="928800" y="2428920"/>
            <a:ext cx="42840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Picture 1" descr=""/>
          <p:cNvPicPr/>
          <p:nvPr/>
        </p:nvPicPr>
        <p:blipFill>
          <a:blip r:embed="rId1"/>
          <a:stretch/>
        </p:blipFill>
        <p:spPr>
          <a:xfrm>
            <a:off x="452520" y="2338560"/>
            <a:ext cx="8238960" cy="2180880"/>
          </a:xfrm>
          <a:prstGeom prst="rect">
            <a:avLst/>
          </a:prstGeom>
          <a:ln w="0">
            <a:noFill/>
          </a:ln>
        </p:spPr>
      </p:pic>
      <p:sp>
        <p:nvSpPr>
          <p:cNvPr id="1030" name="矩形 2"/>
          <p:cNvSpPr/>
          <p:nvPr/>
        </p:nvSpPr>
        <p:spPr>
          <a:xfrm>
            <a:off x="928800" y="2428920"/>
            <a:ext cx="42840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1" descr=""/>
          <p:cNvPicPr/>
          <p:nvPr/>
        </p:nvPicPr>
        <p:blipFill>
          <a:blip r:embed="rId1"/>
          <a:stretch/>
        </p:blipFill>
        <p:spPr>
          <a:xfrm>
            <a:off x="500040" y="785880"/>
            <a:ext cx="8267760" cy="219060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2" descr=""/>
          <p:cNvPicPr/>
          <p:nvPr/>
        </p:nvPicPr>
        <p:blipFill>
          <a:blip r:embed="rId2"/>
          <a:stretch/>
        </p:blipFill>
        <p:spPr>
          <a:xfrm>
            <a:off x="785880" y="2857680"/>
            <a:ext cx="3114720" cy="5140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3" descr=""/>
          <p:cNvPicPr/>
          <p:nvPr/>
        </p:nvPicPr>
        <p:blipFill>
          <a:blip r:embed="rId3"/>
          <a:stretch/>
        </p:blipFill>
        <p:spPr>
          <a:xfrm>
            <a:off x="571680" y="3357720"/>
            <a:ext cx="8172360" cy="3066840"/>
          </a:xfrm>
          <a:prstGeom prst="rect">
            <a:avLst/>
          </a:prstGeom>
          <a:ln w="0">
            <a:noFill/>
          </a:ln>
        </p:spPr>
      </p:pic>
      <p:sp>
        <p:nvSpPr>
          <p:cNvPr id="1034" name="矩形 4"/>
          <p:cNvSpPr/>
          <p:nvPr/>
        </p:nvSpPr>
        <p:spPr>
          <a:xfrm>
            <a:off x="7061040" y="1260360"/>
            <a:ext cx="1500480" cy="443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5"/>
          <p:cNvSpPr/>
          <p:nvPr/>
        </p:nvSpPr>
        <p:spPr>
          <a:xfrm>
            <a:off x="928800" y="1785960"/>
            <a:ext cx="7142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6"/>
          <p:cNvSpPr/>
          <p:nvPr/>
        </p:nvSpPr>
        <p:spPr>
          <a:xfrm>
            <a:off x="8215200" y="2286000"/>
            <a:ext cx="42876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7"/>
          <p:cNvSpPr/>
          <p:nvPr/>
        </p:nvSpPr>
        <p:spPr>
          <a:xfrm>
            <a:off x="1000080" y="2786040"/>
            <a:ext cx="12146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8"/>
          <p:cNvSpPr/>
          <p:nvPr/>
        </p:nvSpPr>
        <p:spPr>
          <a:xfrm>
            <a:off x="5072040" y="3429000"/>
            <a:ext cx="1571760" cy="3430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10"/>
          <p:cNvSpPr/>
          <p:nvPr/>
        </p:nvSpPr>
        <p:spPr>
          <a:xfrm>
            <a:off x="5500800" y="4429080"/>
            <a:ext cx="2000160" cy="3430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11"/>
          <p:cNvSpPr/>
          <p:nvPr/>
        </p:nvSpPr>
        <p:spPr>
          <a:xfrm>
            <a:off x="6143760" y="5500800"/>
            <a:ext cx="1214280" cy="3427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Picture 1" descr=""/>
          <p:cNvPicPr/>
          <p:nvPr/>
        </p:nvPicPr>
        <p:blipFill>
          <a:blip r:embed="rId1"/>
          <a:stretch/>
        </p:blipFill>
        <p:spPr>
          <a:xfrm>
            <a:off x="428760" y="928800"/>
            <a:ext cx="820080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Picture 1" descr=""/>
          <p:cNvPicPr/>
          <p:nvPr/>
        </p:nvPicPr>
        <p:blipFill>
          <a:blip r:embed="rId1"/>
          <a:stretch/>
        </p:blipFill>
        <p:spPr>
          <a:xfrm>
            <a:off x="438120" y="1119240"/>
            <a:ext cx="826776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"/>
          <p:cNvPicPr/>
          <p:nvPr/>
        </p:nvPicPr>
        <p:blipFill>
          <a:blip r:embed="rId1"/>
          <a:stretch/>
        </p:blipFill>
        <p:spPr>
          <a:xfrm>
            <a:off x="471600" y="1052640"/>
            <a:ext cx="8200800" cy="4752720"/>
          </a:xfrm>
          <a:prstGeom prst="rect">
            <a:avLst/>
          </a:prstGeom>
          <a:ln w="0">
            <a:noFill/>
          </a:ln>
        </p:spPr>
      </p:pic>
      <p:sp>
        <p:nvSpPr>
          <p:cNvPr id="1044" name="矩形 2"/>
          <p:cNvSpPr/>
          <p:nvPr/>
        </p:nvSpPr>
        <p:spPr>
          <a:xfrm>
            <a:off x="1071720" y="2714760"/>
            <a:ext cx="2571480" cy="349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3"/>
          <p:cNvSpPr/>
          <p:nvPr/>
        </p:nvSpPr>
        <p:spPr>
          <a:xfrm>
            <a:off x="1106640" y="4272120"/>
            <a:ext cx="25714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4"/>
          <p:cNvSpPr/>
          <p:nvPr/>
        </p:nvSpPr>
        <p:spPr>
          <a:xfrm>
            <a:off x="974880" y="5332320"/>
            <a:ext cx="4286160" cy="360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Picture 1" descr=""/>
          <p:cNvPicPr/>
          <p:nvPr/>
        </p:nvPicPr>
        <p:blipFill>
          <a:blip r:embed="rId1"/>
          <a:stretch/>
        </p:blipFill>
        <p:spPr>
          <a:xfrm>
            <a:off x="452520" y="1486080"/>
            <a:ext cx="8238960" cy="3886200"/>
          </a:xfrm>
          <a:prstGeom prst="rect">
            <a:avLst/>
          </a:prstGeom>
          <a:ln w="0">
            <a:noFill/>
          </a:ln>
        </p:spPr>
      </p:pic>
      <p:sp>
        <p:nvSpPr>
          <p:cNvPr id="1048" name="矩形 2"/>
          <p:cNvSpPr/>
          <p:nvPr/>
        </p:nvSpPr>
        <p:spPr>
          <a:xfrm>
            <a:off x="1149480" y="2550960"/>
            <a:ext cx="2571480" cy="363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3"/>
          <p:cNvSpPr/>
          <p:nvPr/>
        </p:nvSpPr>
        <p:spPr>
          <a:xfrm>
            <a:off x="1143000" y="4143240"/>
            <a:ext cx="7429680" cy="3495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4"/>
          <p:cNvSpPr/>
          <p:nvPr/>
        </p:nvSpPr>
        <p:spPr>
          <a:xfrm>
            <a:off x="785880" y="4643280"/>
            <a:ext cx="2571840" cy="3495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09:50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